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5C426-B180-4B41-B01E-79EDD3B391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8B95C-42CB-4559-AFA8-80007715F73C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95F4-C2FF-4D07-9A4E-B903A4D98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74A5-DD02-42FC-8DF3-E01E4E965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8A94-C444-4E0A-B322-D07745DD3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60BD-7995-4E15-9A6D-0C2DD2121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41C15-2CA8-4D80-B57B-932CA8327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0B054-2730-4E83-A656-FB56702E3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27E8B-8493-4270-9B29-A9DB16EDB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00749-D83B-40F6-A463-59E887F72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E2E9F-3659-4498-B984-D960E0930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874A5-175F-43A5-9A64-B76F90778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244A6-6BB0-4187-B9EE-760436C4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9768-BC08-4ED8-B0BD-D822431EF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E83DB-9410-40EE-95AA-862AC371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456C7-C6B5-45AC-B3B6-FF45CB5E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05843-D39B-4202-A577-4DE8B1E56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79116-C77B-498F-91CA-E36121EE3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C7637-1D2A-4702-BDA2-E39D9CB40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2048-304A-4A54-8D7F-961CAC063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50CD-DF82-445C-904C-EA2FF4491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F8A2-09E0-41D7-8694-C7698687A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265E-011B-458C-B28A-F636647E8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F262-B11D-4F0A-9361-81DE26C9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B546-6D43-4900-8CF5-ED984946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21FE-2E3D-44E7-A1CA-6706E39F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48A87-584B-4392-93A3-438A77EEE56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5A13D-FAD7-423C-AC0B-D97A554C96C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99640" y="1556640"/>
            <a:ext cx="734184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姚仁祿老師「設計邊境」課程</a:t>
            </a:r>
            <a:br>
              <a:rPr sz="3600"/>
            </a:b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觀後感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6666"/>
                </a:solidFill>
                <a:latin typeface="Arial"/>
              </a:rPr>
              <a:t>文化大學碩士學分班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6666"/>
                </a:solidFill>
                <a:latin typeface="Arial"/>
              </a:rPr>
              <a:t>課程：「教學設計與多媒體應用」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6666"/>
                </a:solidFill>
                <a:latin typeface="Arial"/>
              </a:rPr>
              <a:t>指導老師：鄒景平老師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6666"/>
                </a:solidFill>
                <a:latin typeface="Arial"/>
              </a:rPr>
              <a:t>學員：謝毓薇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44640" y="1169640"/>
            <a:ext cx="8140320" cy="61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重新定義產業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789360"/>
            <a:ext cx="8229600" cy="236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We definite everything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755640" y="270792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帶領我們去思考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平常再熟悉不過的事務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是否可以再求創新及改變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所有的設計都是從『人性』始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而孕育產生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『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價值觀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』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影響著我們如何去思考執行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並求更新變革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讓人類生活的環境可以變得更美好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設計需用心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不可否認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如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專利商品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『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以拙劣的設計物和構造物來汙染地球的行為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應立即停止了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』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引用自加拿大工業設計家彼庫特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‧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巴巴雷特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zh-TW" sz="1800" spc="-1" strike="noStrike" u="sng">
                <a:solidFill>
                  <a:srgbClr val="003366"/>
                </a:solidFill>
                <a:uFillTx/>
                <a:latin typeface="Arial"/>
              </a:rPr>
              <a:t>設計概論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一書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755640" y="83664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「設計是什麼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?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」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-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主要啟發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26920" y="2491920"/>
            <a:ext cx="7693200" cy="41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人心思考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需從日常生活中去觀察省思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可以改善的事物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(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重點是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設計需先依賴知識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但卻不受限於既有的知識地圖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得拋開地圖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設計之物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才不會淪於舊有的模仿或複製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例如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電腦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＞筆記型電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網路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http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－＞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ttp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行動裝置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＞智慧型手機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9144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「設計是什麼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?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」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-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如何應用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900000" y="270792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一、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0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世紀的頭腦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無法解決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1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世紀的問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二、重新定義你熟悉的事務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三、重新定義產業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四、「設計需用心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而非用腦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」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Theo Jansen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的作品影片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五、課後提問及交流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學生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「『設計』是解決問題」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「 讓現況靠近期望的能力」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755280" y="7646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6666"/>
                </a:solidFill>
                <a:latin typeface="Arial"/>
              </a:rPr>
              <a:t>「設計是什麼</a:t>
            </a: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?</a:t>
            </a:r>
            <a:r>
              <a:rPr b="1" lang="zh-TW" sz="4000" spc="-1" strike="noStrike">
                <a:solidFill>
                  <a:srgbClr val="006666"/>
                </a:solidFill>
                <a:latin typeface="Arial"/>
              </a:rPr>
              <a:t>」</a:t>
            </a: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-</a:t>
            </a:r>
            <a:r>
              <a:rPr b="1" lang="zh-TW" sz="4000" spc="-1" strike="noStrike">
                <a:solidFill>
                  <a:srgbClr val="006666"/>
                </a:solidFill>
                <a:latin typeface="Arial"/>
              </a:rPr>
              <a:t>內容架構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087560" y="1457640"/>
            <a:ext cx="7751520" cy="61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20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世紀的頭腦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,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無法解決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21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世紀的問題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7" name="Picture 4" descr="設計邊境_1"/>
          <p:cNvPicPr/>
          <p:nvPr/>
        </p:nvPicPr>
        <p:blipFill>
          <a:blip r:embed="rId1"/>
          <a:stretch/>
        </p:blipFill>
        <p:spPr>
          <a:xfrm>
            <a:off x="755640" y="2276640"/>
            <a:ext cx="8388360" cy="43923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116000" y="1125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重新定義你熟悉的事務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Picture 8" descr="設計邊境_2_0_0"/>
          <p:cNvPicPr/>
          <p:nvPr/>
        </p:nvPicPr>
        <p:blipFill>
          <a:blip r:embed="rId1"/>
          <a:stretch/>
        </p:blipFill>
        <p:spPr>
          <a:xfrm>
            <a:off x="755640" y="2381400"/>
            <a:ext cx="8207280" cy="4476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設計邊境_2_0_0"/>
          <p:cNvPicPr/>
          <p:nvPr/>
        </p:nvPicPr>
        <p:blipFill>
          <a:blip r:embed="rId2"/>
          <a:stretch/>
        </p:blipFill>
        <p:spPr>
          <a:xfrm>
            <a:off x="755640" y="2205000"/>
            <a:ext cx="8388360" cy="44769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231920" y="1241640"/>
            <a:ext cx="8140320" cy="61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6666"/>
                </a:solidFill>
                <a:latin typeface="Arial"/>
              </a:rPr>
              <a:t>關鍵在用心，而非用腦</a:t>
            </a:r>
            <a:br>
              <a:rPr sz="2400"/>
            </a:br>
            <a:r>
              <a:rPr b="1" lang="zh-TW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Theo Jansen- </a:t>
            </a:r>
            <a:r>
              <a:rPr b="1" lang="zh-TW" sz="2400" spc="-1" strike="noStrike">
                <a:solidFill>
                  <a:srgbClr val="006666"/>
                </a:solidFill>
                <a:latin typeface="Arial"/>
              </a:rPr>
              <a:t>荷蘭藝術家</a:t>
            </a:r>
            <a:br>
              <a:rPr sz="2400"/>
            </a:br>
            <a:r>
              <a:rPr b="1" lang="zh-TW" sz="2400" spc="-1" strike="noStrike">
                <a:solidFill>
                  <a:srgbClr val="006666"/>
                </a:solidFill>
                <a:latin typeface="Arial"/>
              </a:rPr>
              <a:t>花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16</a:t>
            </a:r>
            <a:r>
              <a:rPr b="1" lang="zh-TW" sz="2400" spc="-1" strike="noStrike">
                <a:solidFill>
                  <a:srgbClr val="006666"/>
                </a:solidFill>
                <a:latin typeface="Arial"/>
              </a:rPr>
              <a:t>年來挑戰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-</a:t>
            </a:r>
            <a:r>
              <a:rPr b="1" lang="zh-TW" sz="2400" spc="-1" strike="noStrike">
                <a:solidFill>
                  <a:srgbClr val="006666"/>
                </a:solidFill>
                <a:latin typeface="Arial"/>
              </a:rPr>
              <a:t>規零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Picture 4" descr="artist's creater "/>
          <p:cNvPicPr/>
          <p:nvPr/>
        </p:nvPicPr>
        <p:blipFill>
          <a:blip r:embed="rId1"/>
          <a:stretch/>
        </p:blipFill>
        <p:spPr>
          <a:xfrm>
            <a:off x="717480" y="2247840"/>
            <a:ext cx="8426520" cy="46101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963720" y="885600"/>
            <a:ext cx="8130960" cy="67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Theo Jansen- </a:t>
            </a:r>
            <a:r>
              <a:rPr b="1" lang="zh-TW" sz="2400" spc="-1" strike="noStrike">
                <a:solidFill>
                  <a:srgbClr val="006666"/>
                </a:solidFill>
                <a:latin typeface="Arial"/>
              </a:rPr>
              <a:t>荷蘭藝術家作品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Picture 4" descr="artist's creater 2 "/>
          <p:cNvPicPr/>
          <p:nvPr/>
        </p:nvPicPr>
        <p:blipFill>
          <a:blip r:embed="rId1"/>
          <a:stretch/>
        </p:blipFill>
        <p:spPr>
          <a:xfrm>
            <a:off x="611280" y="2276640"/>
            <a:ext cx="8715240" cy="45813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963720" y="956880"/>
            <a:ext cx="8130960" cy="67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Theo Jansen- </a:t>
            </a:r>
            <a:r>
              <a:rPr b="1" lang="zh-TW" sz="2400" spc="-1" strike="noStrike">
                <a:solidFill>
                  <a:srgbClr val="006666"/>
                </a:solidFill>
                <a:latin typeface="Arial"/>
              </a:rPr>
              <a:t>荷蘭藝術家作品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Picture 4" descr="artist's creater 3 "/>
          <p:cNvPicPr/>
          <p:nvPr/>
        </p:nvPicPr>
        <p:blipFill>
          <a:blip r:embed="rId1"/>
          <a:stretch/>
        </p:blipFill>
        <p:spPr>
          <a:xfrm>
            <a:off x="755640" y="2276640"/>
            <a:ext cx="8388360" cy="45813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963720" y="956880"/>
            <a:ext cx="8130960" cy="67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Theo Jansen- </a:t>
            </a:r>
            <a:r>
              <a:rPr b="1" lang="zh-TW" sz="2400" spc="-1" strike="noStrike">
                <a:solidFill>
                  <a:srgbClr val="006666"/>
                </a:solidFill>
                <a:latin typeface="Arial"/>
              </a:rPr>
              <a:t>荷蘭藝術家作品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Picture 4" descr="artist's creater 4 "/>
          <p:cNvPicPr/>
          <p:nvPr/>
        </p:nvPicPr>
        <p:blipFill>
          <a:blip r:embed="rId1"/>
          <a:stretch/>
        </p:blipFill>
        <p:spPr>
          <a:xfrm>
            <a:off x="684360" y="2205000"/>
            <a:ext cx="8459640" cy="4653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963720" y="885600"/>
            <a:ext cx="8130960" cy="67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Theo Jansen- </a:t>
            </a:r>
            <a:r>
              <a:rPr b="1" lang="zh-TW" sz="2400" spc="-1" strike="noStrike">
                <a:solidFill>
                  <a:srgbClr val="006666"/>
                </a:solidFill>
                <a:latin typeface="Arial"/>
              </a:rPr>
              <a:t>荷蘭藝術家作品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" name="Picture 5" descr="artist's creater 5 "/>
          <p:cNvPicPr/>
          <p:nvPr/>
        </p:nvPicPr>
        <p:blipFill>
          <a:blip r:embed="rId1"/>
          <a:stretch/>
        </p:blipFill>
        <p:spPr>
          <a:xfrm>
            <a:off x="684360" y="2276640"/>
            <a:ext cx="8459640" cy="45813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6T15:20:34Z</dcterms:created>
  <dc:creator>user</dc:creator>
  <dc:description/>
  <dc:language>en-US</dc:language>
  <cp:lastModifiedBy>user</cp:lastModifiedBy>
  <dcterms:modified xsi:type="dcterms:W3CDTF">2010-10-23T04:31:41Z</dcterms:modified>
  <cp:revision>48</cp:revision>
  <dc:subject/>
  <dc:title>姚仁祿老師「設計邊境」課程觀後感</dc:title>
</cp:coreProperties>
</file>